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chimes.wav" ContentType="audio/x-wav"/>
  <Override PartName="/ppt/media/image9.png" ContentType="image/png"/>
  <Override PartName="/ppt/media/laser.wav" ContentType="audio/x-wav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E07F-F6AA-4CD3-8D09-7FE3501A04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8049-EC9E-4D97-9F98-06F9D6B5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23E319-5CA2-48A8-9640-A975DFE2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B07428-DE25-4C58-962F-3827DB76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E58F67-3E7F-438D-BD2E-E2703309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58DC2A-3A7D-4A6F-9063-FF7D75DB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CDABB5-6629-4CCD-9E85-DC62628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86EEF7-5C85-4E34-BC70-720AFFCE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CAC948-D720-40A6-8379-0AEC1C4C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E27BCE-627E-4B1E-8D86-8749ABB6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051A01-CA7E-49F5-9DE3-3463D4C60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C3957-CA0E-4DBA-BEB0-F92090F5A8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41D2-CA30-4650-AC51-4F46B4C2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4B236-DF13-4895-8E01-93623E32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9F906-40AD-4A32-91EB-DF99A1CE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57B58-0EC7-4C32-BE6A-9D77ED5C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02082-1EAE-47C6-BF42-18B2EEAC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1DAD7-7054-4C92-B098-46508F38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BD6BC-6460-408B-AE60-CC794C68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BDFF0-23F5-4CFB-91D6-7E263B26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BCDB5-3572-446E-99C8-5C95F6EB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F6D12-1272-41BD-B533-9BC3F772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6FE10-28BD-4F3B-998E-2535C728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97A3-91AB-4162-9641-00AE8B228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3E9B9-0626-4DBC-BFA6-2B820A4CA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DF17B7-322C-4993-83EF-2791466728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BF9AFC-8A05-46DA-9C88-DE872756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31FE85-A845-4E15-8DA8-D2C3EE6D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BEEC03-0B42-483C-8B84-B15D01E4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94F96-DBA5-4FED-BC73-63B98F55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49C09F-14B6-464A-AFD8-4DC0F28E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21E3F2-24F5-48B9-A231-66A550E3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EC3F7-4741-4A06-9233-48555DD8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48731B-53AD-476C-844D-E827CA60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8BB71-DE67-4D78-AABA-F4951A73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2A26C6-B88E-40AE-A2CC-671AEB07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735C1-0121-473F-AB9B-C6A103B7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1B8E45-0C15-450A-93E8-98498942CF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E415D-CDF8-446D-9468-4F9640AB6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60B57-9044-46A0-995C-91C54867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F340F-5D3A-4787-BB00-BC4AEDAC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67E7E-2865-4BFF-8555-E9F0A7E4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6B735-EDD5-4190-9091-B2D6325F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C5F5F-27CE-4976-8596-5AE72975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5728C-587A-4E7F-BAF1-09D57C15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3A374-6DF6-4532-809D-D5AF7E47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8F308-4E20-4DC3-A43D-65587D85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9DEA9-46D8-46F5-8F3A-6B7D5419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DC94C-093F-46D4-B214-030A589F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BC1E9-4EC1-4A79-B1FE-2A9B8B4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EE9EE-4643-4034-B196-E36614C32F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BDDBE-00C0-4B54-8EB0-6D68D3B77E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F434D-D029-4DAB-88B5-97D73AFE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A63D0-98D2-4017-B96E-DA0A8E67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56770-243C-437B-AE70-D6CB8C65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5A0A0-14FE-4272-8A44-9A52E7C1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A8F8A-3C85-4130-8876-96D9CCAA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D3EC1-FC53-45EA-B737-D153C7E6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ECA4E-7F5B-4BB1-8AA2-EC9DB3A0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7DCCC-E2DF-4B96-891A-D7E4BAE5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CE3FD-641C-4E6E-89EB-B282F1A3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836CA-DAF2-4E71-B23C-09A89DCD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A67A3-53D8-4E22-9E44-DEAE6A5E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1CF66-C9E0-40D1-8FE4-391E27ABB7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6F676-8977-446D-928B-75434F64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4F491-279C-4209-BBD8-C7D3F3BF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BC9DA-E89B-448C-BA6D-9532EBBE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54521-CEDA-4AB6-A9DB-445F9E8F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D2B94-9153-4BCD-B068-E1F33216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C3C22-CBB0-4EF7-928F-EBC5484A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C279D-2B09-4F1C-B798-A2DA359B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E386B-903A-4942-926A-9E59FDFD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E74F0-0F60-4AF0-9414-031558D4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A8231-09E3-416D-BA1C-CCB7535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CF188-7DEC-445E-82F1-F43D002E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2C0D3-AADF-41BF-925D-0F949CF5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17DDB-34D3-4879-ACF8-5915FA1E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DF643-2C8C-417B-BB56-4642E282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D3811-6FBE-43C4-AF26-8E46AD6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BB8D3-B17D-49AA-B8B1-A3A7A63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A9A35-EAA8-47E0-9553-338E8A7C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EBD53-48D3-4B75-B18C-C87503F6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36B97-2067-4B51-8CD7-5C6AE609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2D796-4B11-4A92-98DA-867CC227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111C-FB34-430B-ACC3-CA1DFBA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6F284-9405-4017-A164-E8CEDE1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33B90-75D2-45FF-A129-7E148046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E3194-9C78-4DD9-8C3D-19845F68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A2DA6-53C5-48AA-8264-E58433F4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01259-494E-4D50-8333-406B2A6E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59115-9922-4E3C-B210-16D63BB4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DA76A-996D-48DF-B244-76F55B9B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78A92-59A4-4919-98C9-49D15401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218BB-4B96-4434-BB2C-5904B8DC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AD186-355B-4D7A-A164-ACA15517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4A1F6-4B8F-4838-822A-0668B454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24776-2F96-493B-A11C-283894FD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16BBB-4DB0-45D3-8CA8-158F112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B1C90-252D-40C8-89FF-2C01DA2D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EAA4E-57A9-4544-B26E-698CFF7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43226-44CC-4C65-86EA-2EF7B88A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78135-CB9C-423A-A892-BBCAB7EE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23CB8-DC35-4355-85C8-57CD575B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B9A28-5BCE-4B81-8D31-44FC8766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1B08C-B021-4ADD-A8E3-7A3ED97C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3D8AC-7F0B-4AFD-AFA9-5CD8EB7F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0C272-75BB-417B-B62B-649BCCFF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40D61-5D3E-4832-9DB1-7BA53737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B1EAC-8BBF-4A06-810C-AC8281AD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ADBC9-C5E6-4F51-98D6-47D49FE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83A10-B2AB-4B1B-B541-29AF140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1897-8309-4F14-A731-C36E27EF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123F7-848E-4AE7-9DBD-DAC5FCA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6AA59-B454-4193-A366-B613E578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B7D11-5C2C-44DA-8ED1-CC1928E8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06EE3-4BFE-4EDD-8E81-A19798A6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412F5-1149-4DE4-86DD-BF6A82E6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7B489-E9C0-4B5B-AA20-0DF9ED39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694C24-D98E-4E3B-B5F6-9523BC46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B9DCA-5ED0-421D-9BB0-58714720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30E9A-CB28-4625-8CD7-2C4B8984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33361-3D5D-420F-866F-26C6185A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FD02A-0DC8-4701-BF80-2C4923CA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AA2FF-EA6B-49F8-903F-79725CC9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7FA8D-8BC9-4A3B-92B9-CDD75456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9065E-8E19-4789-B6A2-A519AF1E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121D7-922F-4370-ABD1-73C621D5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B6E064-8C88-4532-A7A9-4900693A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9A993-A2A7-49EE-91F0-CF9F73D5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1A3C7-5EE3-495D-991D-3EDC0F99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0819D-E4AB-4D93-A68B-F798884C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9218E-2511-4968-A8C8-86D81B43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67E15-67C2-4758-957F-67E8670E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176E5-F2A5-490D-B678-99ABF590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0E196-43B2-4574-9D05-BCCA288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24D337-AF64-40B7-B83E-43B1B5FA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6A15C-0850-47FE-951A-14F9854F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B5910-C2B2-4F4F-BEFA-82519701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BC55F-B55A-435C-9928-B179FC4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61446D-B55B-4848-9F3D-2C588722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A3D24-5A10-4F4B-B946-E99AB3F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EE50F-E6DF-493F-BDBB-0ACB2CCA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6E405-BE4B-4B99-B01D-831DC5A2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A50EB-10A1-4B47-9F6A-BD1803E4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1F643-7487-436C-B9E7-BB5B3E29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3983E-C71D-479A-94A6-4B6FEC2F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7D3BC-D12C-405C-A07F-10C71C93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33493-6FE9-4032-8975-495DA7C8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9DD8C-3B6D-4CB8-9F68-177FD823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2D854-E3F6-4C12-BE7B-931DFC34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F9E20E-A8E3-40BD-83AE-2BBBA4D1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35DE9-DF89-46A8-8E4E-023AA4F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85D4E-C2BA-4E77-9945-A036CD34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608A8F-4CC7-4815-A837-348A75ED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B16566-600C-46EC-B3D2-94E2FA69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DD7DC-CE41-4503-AC53-C36DA66A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C9BDF-7640-49F1-845E-67FE7812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824D2-F445-4E34-8C95-64991284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40EF2-AE74-4BD2-8798-896C3D24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C354A-6E56-46C9-AB70-3D95CD4B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9E618-D662-4CE9-988D-871E1385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99CC3-4253-47A0-97EA-0FC85589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D6A4C-EAFC-4F25-A173-454780BE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BCB7D-9644-428A-AF14-8D878B13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AD1A1-FC69-4D43-B98B-70DA0DC4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7AE83-1589-4D05-BB10-9F39341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BEBA6-80EA-4E4F-9354-ED83153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943CFB-7F6F-4139-ACA4-9AE0202902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1D7E4-7F2A-467F-98BF-47D8C4F6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22183C-E86D-4408-9332-D3FE3F11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0ABC8-256D-4D8C-B0F1-8C78B24C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52E456-752A-43CE-ABDF-74EE9883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9BB0E-E554-42DC-943F-B09F9D8B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702332-C30E-4F33-A8F5-36D5184E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079C2C-1B87-425C-A5EC-CA0ADCBC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F6F03-0ADD-4E4B-9FA3-871192EB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4871D-FA4A-4C2D-BDB3-3C1B292A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FC990A-5B9C-483B-AD18-9EFF3A10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21BD5-E0BE-4340-A3E3-41599C43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CE514-315E-4BA9-B83F-02BD781D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F4BC6-97E8-413F-949E-4F490EC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E916F2-3553-40A6-9349-FD7999CC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4F489-9A6E-46BC-AB4D-8B2A2832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142DB-4D66-4145-B82A-4DE61A38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36243-E7EA-426D-B9B8-733046E0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81DED5-AF41-4E52-BDC7-96B86D23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4D2569-79FF-47E0-85CE-A634211F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32CC6-57B3-4A5A-B10D-BB63D5C2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73DDDF-55FD-4706-A9F9-4EEE9A0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45FAE-4814-41FC-8392-FAB97AE6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CA9A5-C69F-4E8A-9CBB-BA16B640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3438E6-F103-4D16-8FC0-7940943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4F63C-8D4F-4D4D-AC85-FB5FF6B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20F7C-2EF6-40FE-BEC1-6A920E8D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D0CBF-7697-4B19-8B21-7D302786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5EA28-0709-4037-99E6-74F5F8B1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BC310-3481-4F25-A4D9-16B38A3F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FCD7E-6179-410D-814B-3AB83907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48753B-C33B-4DF6-8115-F9A3909F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6B505-13DD-488D-8409-F28037E0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CB611-5D11-4364-A5B7-FA8FA68F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EAB944-C5C4-49EA-829F-B8CBD6C8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F4997-4D7E-4D5C-8C19-69F9D6C1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C9B65-3490-4139-B490-FE211BC2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F122F2-CCF3-41EA-AF00-7B29D5F1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B39C3-9C45-49D1-9AAF-84C54C36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D5C67-5B20-497A-A5E4-AEA03D55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DDFE3-8DB1-4D05-BA72-D86FEDEE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01B28-DC3C-42B8-8FB1-DC910711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EE5CB-0B74-422D-A6E9-9A720248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0E151-DD3B-45AC-ACF1-B321E7A0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523A-C943-470E-A54C-A6493DEA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5A9F09-C710-4B83-A73D-CC6F97EA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9C3F3-4A4B-4230-95F2-59DF7B8A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84F502-123B-4F7B-B58C-33555C5D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870D6-0500-45A9-8A30-2D5536FD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F7AFC-E5E0-44DB-8326-2463DDF4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F39A7C-4967-4A1B-9445-3F0E4D83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EF06D-AE94-48C9-80C7-00EA3C28E5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0D71-5402-485F-BF41-25ABEE579B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5BAA-72A6-464F-831F-7FB6856F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458F-1733-45AB-9EFC-A6FDEAD0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84D57-F5E9-48C9-B56A-4786B7D0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B6B0-5531-4014-BA4C-6AEBF869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0DE69-5353-44A4-AC11-FAA1CDF6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BA02-41CE-4875-B0AF-B9AAD0A0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08D9-3373-4C87-8131-EB4A1509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973F-EE72-46C8-867B-2E90DB54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3B14-2012-4754-8ACB-460E6B11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3453-E428-4C5E-A0B1-83583B79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C9E7-DD2C-433B-A05E-3006CB3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1E9EC-154F-4D60-93C0-CC6CC3568B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91DA87-08FB-43A4-A80C-3ABD4D0896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E466-5771-43F4-904D-750DAD71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877C6-7798-419A-9756-4C58E0E3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0405B-D61D-4F17-A32C-A227D46D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67DF1-7F5D-49DC-8E72-70B155EF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6D737-0333-442F-A6F1-A3C7254D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20103F-A0A3-4781-9E6A-3A13C43C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FBB50-C8E6-4ED5-8E6C-38E75794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764504-7B08-4BC7-AFF5-F74AF835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CD4D9-DA92-4DE1-A4BB-4C4C3792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252DA-BB93-4FB9-BA8F-BA8D49A9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0BB4A-47F3-4D12-BE2C-7C72ECF0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01496-7F30-41E5-A99D-8E3E731C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729D6E-E150-4C5F-9ADB-C9F50D218F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9CCED-0FC0-4DCC-909E-D1CF34BD6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E9DC48-7520-4242-9B01-4A0F3ABC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D95662-3905-400E-84EC-C7651B96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48EE2-7880-4EF5-9B39-6B97B4A9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6D677E-38B3-4B39-ACB8-16F965B5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A1C85E-1AA5-46E2-9EB7-B952863E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84CFCE-9118-43F0-B5ED-7E1C40FA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2632B8-BA56-4492-A15D-5E1D030B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FCAA0F-83C5-4E60-A5BC-78895BED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E453-CDD5-4587-9F1D-FC4F496C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826F37-9B43-4AB6-B459-8BE537E7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0BD1BD-C5BC-4111-B6BC-ECAE06D9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66320E-A783-4042-AB67-026491A617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EA196-85BD-4489-B85D-C33317F9A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A691-4223-41AC-91C6-873119B5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6E2E5-69C8-4F83-80C7-A3F511E6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E93C-3CBB-4F28-8BCE-78C92ED3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0488-9DA1-47BB-8E04-59504114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5B237-867E-4AC3-AD2F-6B41CB07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D1678-19DD-4487-B0BD-5C92F9DD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6C10-E01C-420E-8B88-0E34A558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A7A01-25CC-49DE-BAE1-19DB5476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187BE-1479-42D3-A657-8697492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FBCC5-1325-42DF-B0DF-B4016178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862B-AAC2-4AD9-B454-3A8AD1A4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DFFB-8045-400A-BE2E-9506419D2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ED62D-08F6-43FD-8DE2-813FFDDF85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18FB9-9521-4675-BC24-82F11B6D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7C5E6-8EDD-47C0-843B-7901D06A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A21C6-D209-43E7-B464-B6709388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FB102-5356-4DBF-A3C8-A0328A51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AC75-84B5-48D8-9859-959501FF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C832D-5E07-41A1-944A-179E12A4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BA980-502D-4103-8615-72FDAD9D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EFA96-2C71-4EA6-9209-BDCFEBAF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59DE3-8F67-41D8-A756-3113454D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08BFA-B633-4EB4-BB07-75C61A32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FFD82D-0AA6-4DF1-994A-DE980E3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3982E-AE30-4179-AAF6-7A4C86772E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C7500D-0FF3-4C85-AD1A-43F094FDBE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778F94-B1B2-46D5-8BF0-C670D371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CD8714-801D-4CDF-B942-7BE54811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866D-EC15-4636-8499-371B8BF8D2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B006-FBA8-4CF1-A3D8-9C7C88E0A4F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1A5D-341B-4601-A3E3-EC6D735FDF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BEAE-41A9-492F-A040-137F4EA0B7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E4B1-CDFB-488E-B58D-85EBB9F3C57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BE8F-A3E4-4E84-8F10-4625A718853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0C13-0FE7-439F-AE0E-96CA5C5AEA0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4CD1-9262-45F2-B310-8884212E93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7D9E-1014-4D95-8179-A7896B4E1F3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416F-A2F3-499E-8726-3430CA20CF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4F40-2F17-4AAA-9BC5-548C9F818F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F641-ADF5-4219-98D1-60553ACA59C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5301-0B86-42CC-B937-58E79BB052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3B47-F360-4032-B1D8-92333489FD4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2E42-DF64-46BF-8D67-6F25A5D88B8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D64C-202D-49C9-AABE-C3A353BE57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E35E-CA0F-402B-B88E-553F54EEFEA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0143-EB8D-4E1A-B7AE-FC81AD4761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48B8-2D1F-4190-A726-A502133C1A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E057-52BF-4B9F-BDFA-C754845227C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1D37-7852-4E59-885B-C7D4F24543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12B3-D080-4C15-B615-0F25539B56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183-997B-496D-B1B7-EC002A9254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6B7C-E25B-4835-A7CE-C37992F1C07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189160" y="2770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认 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5181480" cy="6120"/>
            <a:chOff x="2284560" y="2448000"/>
            <a:chExt cx="5181480" cy="612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5181480" cy="612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518148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587520" y="1776240"/>
            <a:ext cx="84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6~10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9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9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00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8" name="内容占位符 4097" descr="小鸟"/>
          <p:cNvPicPr/>
          <p:nvPr/>
        </p:nvPicPr>
        <p:blipFill>
          <a:blip r:embed="rId8"/>
          <a:stretch/>
        </p:blipFill>
        <p:spPr>
          <a:xfrm>
            <a:off x="2771640" y="835200"/>
            <a:ext cx="1081080" cy="760320"/>
          </a:xfrm>
          <a:prstGeom prst="rect">
            <a:avLst/>
          </a:prstGeom>
          <a:ln w="0">
            <a:noFill/>
          </a:ln>
        </p:spPr>
      </p:pic>
      <p:pic>
        <p:nvPicPr>
          <p:cNvPr id="1009" name="内容占位符 4098" descr="小鸟"/>
          <p:cNvPicPr/>
          <p:nvPr/>
        </p:nvPicPr>
        <p:blipFill>
          <a:blip r:embed="rId9"/>
          <a:stretch/>
        </p:blipFill>
        <p:spPr>
          <a:xfrm>
            <a:off x="6012000" y="2058840"/>
            <a:ext cx="1081080" cy="762120"/>
          </a:xfrm>
          <a:prstGeom prst="rect">
            <a:avLst/>
          </a:prstGeom>
          <a:ln w="0">
            <a:noFill/>
          </a:ln>
        </p:spPr>
      </p:pic>
      <p:pic>
        <p:nvPicPr>
          <p:cNvPr id="1010" name="内容占位符 4099" descr="小鸟"/>
          <p:cNvPicPr/>
          <p:nvPr/>
        </p:nvPicPr>
        <p:blipFill>
          <a:blip r:embed="rId10"/>
          <a:stretch/>
        </p:blipFill>
        <p:spPr>
          <a:xfrm>
            <a:off x="4572000" y="2203560"/>
            <a:ext cx="1081080" cy="76176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4100" descr="小鸟"/>
          <p:cNvPicPr/>
          <p:nvPr/>
        </p:nvPicPr>
        <p:blipFill>
          <a:blip r:embed="rId11"/>
          <a:stretch/>
        </p:blipFill>
        <p:spPr>
          <a:xfrm>
            <a:off x="1116000" y="2419200"/>
            <a:ext cx="1079640" cy="76068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4101" descr="小鸟"/>
          <p:cNvPicPr/>
          <p:nvPr/>
        </p:nvPicPr>
        <p:blipFill>
          <a:blip r:embed="rId12"/>
          <a:stretch/>
        </p:blipFill>
        <p:spPr>
          <a:xfrm>
            <a:off x="6156360" y="979560"/>
            <a:ext cx="1081080" cy="7588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4102" descr="小鸟"/>
          <p:cNvPicPr/>
          <p:nvPr/>
        </p:nvPicPr>
        <p:blipFill>
          <a:blip r:embed="rId13"/>
          <a:stretch/>
        </p:blipFill>
        <p:spPr>
          <a:xfrm>
            <a:off x="4140360" y="1123920"/>
            <a:ext cx="1081080" cy="75888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4103" descr="小鸟"/>
          <p:cNvPicPr/>
          <p:nvPr/>
        </p:nvPicPr>
        <p:blipFill>
          <a:blip r:embed="rId14"/>
          <a:stretch/>
        </p:blipFill>
        <p:spPr>
          <a:xfrm>
            <a:off x="3276720" y="1916280"/>
            <a:ext cx="1079280" cy="75852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4104" descr="小鸟"/>
          <p:cNvPicPr/>
          <p:nvPr/>
        </p:nvPicPr>
        <p:blipFill>
          <a:blip r:embed="rId15"/>
          <a:stretch/>
        </p:blipFill>
        <p:spPr>
          <a:xfrm>
            <a:off x="755640" y="1050840"/>
            <a:ext cx="1081080" cy="76032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4105" descr="小鸟"/>
          <p:cNvPicPr/>
          <p:nvPr/>
        </p:nvPicPr>
        <p:blipFill>
          <a:blip r:embed="rId16"/>
          <a:stretch/>
        </p:blipFill>
        <p:spPr>
          <a:xfrm>
            <a:off x="2195640" y="1555920"/>
            <a:ext cx="1081080" cy="75852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4106" descr="小鸟"/>
          <p:cNvPicPr/>
          <p:nvPr/>
        </p:nvPicPr>
        <p:blipFill>
          <a:blip r:embed="rId17"/>
          <a:stretch/>
        </p:blipFill>
        <p:spPr>
          <a:xfrm>
            <a:off x="7596360" y="1700280"/>
            <a:ext cx="1081080" cy="758880"/>
          </a:xfrm>
          <a:prstGeom prst="rect">
            <a:avLst/>
          </a:prstGeom>
          <a:ln w="0">
            <a:noFill/>
          </a:ln>
        </p:spPr>
      </p:pic>
      <p:sp>
        <p:nvSpPr>
          <p:cNvPr id="1018" name="文本框 4107"/>
          <p:cNvSpPr/>
          <p:nvPr/>
        </p:nvSpPr>
        <p:spPr>
          <a:xfrm>
            <a:off x="395280" y="372600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4108"/>
          <p:cNvSpPr/>
          <p:nvPr/>
        </p:nvSpPr>
        <p:spPr>
          <a:xfrm>
            <a:off x="2374920" y="372600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4109"/>
          <p:cNvSpPr/>
          <p:nvPr/>
        </p:nvSpPr>
        <p:spPr>
          <a:xfrm>
            <a:off x="3365640" y="3726000"/>
            <a:ext cx="5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4110"/>
          <p:cNvSpPr/>
          <p:nvPr/>
        </p:nvSpPr>
        <p:spPr>
          <a:xfrm>
            <a:off x="4356000" y="372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4111"/>
          <p:cNvSpPr/>
          <p:nvPr/>
        </p:nvSpPr>
        <p:spPr>
          <a:xfrm>
            <a:off x="5345280" y="372600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4112"/>
          <p:cNvSpPr/>
          <p:nvPr/>
        </p:nvSpPr>
        <p:spPr>
          <a:xfrm>
            <a:off x="6335640" y="372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4113"/>
          <p:cNvSpPr/>
          <p:nvPr/>
        </p:nvSpPr>
        <p:spPr>
          <a:xfrm>
            <a:off x="7324560" y="3726000"/>
            <a:ext cx="5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4114"/>
          <p:cNvSpPr/>
          <p:nvPr/>
        </p:nvSpPr>
        <p:spPr>
          <a:xfrm>
            <a:off x="8315280" y="3726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4115"/>
          <p:cNvSpPr/>
          <p:nvPr/>
        </p:nvSpPr>
        <p:spPr>
          <a:xfrm>
            <a:off x="3713040" y="44607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4116"/>
          <p:cNvSpPr/>
          <p:nvPr/>
        </p:nvSpPr>
        <p:spPr>
          <a:xfrm>
            <a:off x="1386000" y="3726000"/>
            <a:ext cx="56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5"/>
          <p:cNvSpPr/>
          <p:nvPr/>
        </p:nvSpPr>
        <p:spPr>
          <a:xfrm>
            <a:off x="968400" y="117360"/>
            <a:ext cx="22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74722 0.343611 E">
                                      <p:cBhvr>
                                        <p:cTn id="19" dur="2000" fill="hold"/>
                                        <p:tgtEl>
                                          <p:spTgt spid="1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0 L -0.011736 0.123148 E">
                                      <p:cBhvr>
                                        <p:cTn id="26" dur="2000" fill="hold"/>
                                        <p:tgtEl>
                                          <p:spTgt spid="10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06 L -0.01962 0.27037 E">
                                      <p:cBhvr>
                                        <p:cTn id="33" dur="2000" fill="hold"/>
                                        <p:tgtEl>
                                          <p:spTgt spid="10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3611 0.346574 E">
                                      <p:cBhvr>
                                        <p:cTn id="40" dur="2000" fill="hold"/>
                                        <p:tgtEl>
                                          <p:spTgt spid="10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2986 0.220463 E">
                                      <p:cBhvr>
                                        <p:cTn id="47" dur="2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75 0.335926 E">
                                      <p:cBhvr>
                                        <p:cTn id="54" dur="2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9.3E-005 L 0.137917 0.196574 E">
                                      <p:cBhvr>
                                        <p:cTn id="61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 0 L 0.082778 0.20713 E">
                                      <p:cBhvr>
                                        <p:cTn id="68" dur="2000" fill="hold"/>
                                        <p:tgtEl>
                                          <p:spTgt spid="10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028 0.060093 L 0.027639 0.25963 E">
                                      <p:cBhvr>
                                        <p:cTn id="75" dur="2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986 -0.010185 C 0.117708 0.01713 0.293194 0.041296 0.229583 0.174444 C 0.165972 0.307593 -0.152778 0.55287 -0.240139 0.655741 C -0.3275 0.758611 -0.217778 0.685185 -0.207222 0.688704 C -0.196667 0.692222 -0.190764 0.677037 -0.187431 0.673333 E">
                                      <p:cBhvr>
                                        <p:cTn id="82" dur="2000" fill="hold"/>
                                        <p:tgtEl>
                                          <p:spTgt spid="10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Group 2"/>
          <p:cNvGrpSpPr/>
          <p:nvPr/>
        </p:nvGrpSpPr>
        <p:grpSpPr>
          <a:xfrm>
            <a:off x="304920" y="1981080"/>
            <a:ext cx="8381880" cy="3067200"/>
            <a:chOff x="304920" y="1981080"/>
            <a:chExt cx="8381880" cy="3067200"/>
          </a:xfrm>
        </p:grpSpPr>
        <p:grpSp>
          <p:nvGrpSpPr>
            <p:cNvPr id="1030" name="Group 3"/>
            <p:cNvGrpSpPr/>
            <p:nvPr/>
          </p:nvGrpSpPr>
          <p:grpSpPr>
            <a:xfrm>
              <a:off x="304920" y="1981080"/>
              <a:ext cx="8381880" cy="3067200"/>
              <a:chOff x="304920" y="1981080"/>
              <a:chExt cx="8381880" cy="3067200"/>
            </a:xfrm>
          </p:grpSpPr>
          <p:pic>
            <p:nvPicPr>
              <p:cNvPr id="1031" name="Picture 4" descr="未命名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981080"/>
                <a:ext cx="8381880" cy="30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Text Box 5"/>
              <p:cNvSpPr/>
              <p:nvPr/>
            </p:nvSpPr>
            <p:spPr>
              <a:xfrm>
                <a:off x="12175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Text Box 6"/>
              <p:cNvSpPr/>
              <p:nvPr/>
            </p:nvSpPr>
            <p:spPr>
              <a:xfrm>
                <a:off x="17809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Text Box 7"/>
              <p:cNvSpPr/>
              <p:nvPr/>
            </p:nvSpPr>
            <p:spPr>
              <a:xfrm>
                <a:off x="23605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8"/>
              <p:cNvSpPr/>
              <p:nvPr/>
            </p:nvSpPr>
            <p:spPr>
              <a:xfrm>
                <a:off x="297000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9"/>
              <p:cNvSpPr/>
              <p:nvPr/>
            </p:nvSpPr>
            <p:spPr>
              <a:xfrm>
                <a:off x="36097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Text Box 10"/>
              <p:cNvSpPr/>
              <p:nvPr/>
            </p:nvSpPr>
            <p:spPr>
              <a:xfrm>
                <a:off x="426564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Text Box 11"/>
              <p:cNvSpPr/>
              <p:nvPr/>
            </p:nvSpPr>
            <p:spPr>
              <a:xfrm>
                <a:off x="48751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Text Box 12"/>
              <p:cNvSpPr/>
              <p:nvPr/>
            </p:nvSpPr>
            <p:spPr>
              <a:xfrm>
                <a:off x="543852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13"/>
              <p:cNvSpPr/>
              <p:nvPr/>
            </p:nvSpPr>
            <p:spPr>
              <a:xfrm>
                <a:off x="6048360" y="3581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Text Box 14"/>
            <p:cNvSpPr/>
            <p:nvPr/>
          </p:nvSpPr>
          <p:spPr>
            <a:xfrm>
              <a:off x="6464520" y="35812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（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Text Box 15"/>
            <p:cNvSpPr/>
            <p:nvPr/>
          </p:nvSpPr>
          <p:spPr>
            <a:xfrm>
              <a:off x="7057800" y="3581280"/>
              <a:ext cx="85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（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Text Box 17"/>
          <p:cNvSpPr/>
          <p:nvPr/>
        </p:nvSpPr>
        <p:spPr>
          <a:xfrm>
            <a:off x="6659640" y="358128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8"/>
          <p:cNvSpPr/>
          <p:nvPr/>
        </p:nvSpPr>
        <p:spPr>
          <a:xfrm>
            <a:off x="7218000" y="3581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46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48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组合 6145"/>
          <p:cNvGrpSpPr/>
          <p:nvPr/>
        </p:nvGrpSpPr>
        <p:grpSpPr>
          <a:xfrm>
            <a:off x="3261240" y="836640"/>
            <a:ext cx="2352960" cy="653760"/>
            <a:chOff x="3261240" y="836640"/>
            <a:chExt cx="2352960" cy="653760"/>
          </a:xfrm>
        </p:grpSpPr>
        <p:sp>
          <p:nvSpPr>
            <p:cNvPr id="1057" name="文本框 6146"/>
            <p:cNvSpPr/>
            <p:nvPr/>
          </p:nvSpPr>
          <p:spPr>
            <a:xfrm>
              <a:off x="3261240" y="909000"/>
              <a:ext cx="235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朵   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8" name="内容占位符 6147" descr="图片234456"/>
            <p:cNvPicPr/>
            <p:nvPr/>
          </p:nvPicPr>
          <p:blipFill>
            <a:blip r:embed="rId1"/>
            <a:stretch/>
          </p:blipFill>
          <p:spPr>
            <a:xfrm>
              <a:off x="4500720" y="836640"/>
              <a:ext cx="729000" cy="64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9" name="图片 6148" descr="图片234456"/>
          <p:cNvPicPr/>
          <p:nvPr/>
        </p:nvPicPr>
        <p:blipFill>
          <a:blip r:embed="rId2"/>
          <a:stretch/>
        </p:blipFill>
        <p:spPr>
          <a:xfrm>
            <a:off x="1189080" y="24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6149" descr="图片234456"/>
          <p:cNvPicPr/>
          <p:nvPr/>
        </p:nvPicPr>
        <p:blipFill>
          <a:blip r:embed="rId3"/>
          <a:stretch/>
        </p:blipFill>
        <p:spPr>
          <a:xfrm>
            <a:off x="2557440" y="2494080"/>
            <a:ext cx="1133640" cy="10080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6150" descr="图片234456"/>
          <p:cNvPicPr/>
          <p:nvPr/>
        </p:nvPicPr>
        <p:blipFill>
          <a:blip r:embed="rId4"/>
          <a:stretch/>
        </p:blipFill>
        <p:spPr>
          <a:xfrm>
            <a:off x="3924360" y="24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6151" descr="图片234456"/>
          <p:cNvPicPr/>
          <p:nvPr/>
        </p:nvPicPr>
        <p:blipFill>
          <a:blip r:embed="rId5"/>
          <a:stretch/>
        </p:blipFill>
        <p:spPr>
          <a:xfrm>
            <a:off x="5292720" y="2494080"/>
            <a:ext cx="1133640" cy="100800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6152" descr="图片234456"/>
          <p:cNvPicPr/>
          <p:nvPr/>
        </p:nvPicPr>
        <p:blipFill>
          <a:blip r:embed="rId6"/>
          <a:stretch/>
        </p:blipFill>
        <p:spPr>
          <a:xfrm>
            <a:off x="6661080" y="2494080"/>
            <a:ext cx="1133640" cy="10080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6153" descr="图片234456"/>
          <p:cNvPicPr/>
          <p:nvPr/>
        </p:nvPicPr>
        <p:blipFill>
          <a:blip r:embed="rId7"/>
          <a:stretch/>
        </p:blipFill>
        <p:spPr>
          <a:xfrm>
            <a:off x="1189080" y="42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6154" descr="图片234456"/>
          <p:cNvPicPr/>
          <p:nvPr/>
        </p:nvPicPr>
        <p:blipFill>
          <a:blip r:embed="rId8"/>
          <a:stretch/>
        </p:blipFill>
        <p:spPr>
          <a:xfrm>
            <a:off x="2556000" y="42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155" descr="图片234456"/>
          <p:cNvPicPr/>
          <p:nvPr/>
        </p:nvPicPr>
        <p:blipFill>
          <a:blip r:embed="rId9"/>
          <a:stretch/>
        </p:blipFill>
        <p:spPr>
          <a:xfrm>
            <a:off x="3924360" y="4294080"/>
            <a:ext cx="1133280" cy="10080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6156" descr="图片234456"/>
          <p:cNvPicPr/>
          <p:nvPr/>
        </p:nvPicPr>
        <p:blipFill>
          <a:blip r:embed="rId10"/>
          <a:stretch/>
        </p:blipFill>
        <p:spPr>
          <a:xfrm>
            <a:off x="5292720" y="4294080"/>
            <a:ext cx="1133640" cy="100800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6157" descr="图片234456"/>
          <p:cNvPicPr/>
          <p:nvPr/>
        </p:nvPicPr>
        <p:blipFill>
          <a:blip r:embed="rId11"/>
          <a:stretch/>
        </p:blipFill>
        <p:spPr>
          <a:xfrm>
            <a:off x="6659640" y="4294080"/>
            <a:ext cx="11332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069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70" name="圆角矩形 5" descr=""/>
            <p:cNvPicPr/>
            <p:nvPr/>
          </p:nvPicPr>
          <p:blipFill>
            <a:blip r:embed="rId12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1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72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13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30" descr=""/>
              <p:cNvPicPr/>
              <p:nvPr/>
            </p:nvPicPr>
            <p:blipFill>
              <a:blip r:embed="rId14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1" descr=""/>
              <p:cNvPicPr/>
              <p:nvPr/>
            </p:nvPicPr>
            <p:blipFill>
              <a:blip r:embed="rId15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32" descr=""/>
              <p:cNvPicPr/>
              <p:nvPr/>
            </p:nvPicPr>
            <p:blipFill>
              <a:blip r:embed="rId16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33" descr=""/>
              <p:cNvPicPr/>
              <p:nvPr/>
            </p:nvPicPr>
            <p:blipFill>
              <a:blip r:embed="rId17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34" descr=""/>
              <p:cNvPicPr/>
              <p:nvPr/>
            </p:nvPicPr>
            <p:blipFill>
              <a:blip r:embed="rId18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3516840" y="1699920"/>
            <a:ext cx="1960920" cy="3417840"/>
            <a:chOff x="3516840" y="1699920"/>
            <a:chExt cx="1960920" cy="3417840"/>
          </a:xfrm>
        </p:grpSpPr>
        <p:sp>
          <p:nvSpPr>
            <p:cNvPr id="1081" name="Text Box 4"/>
            <p:cNvSpPr/>
            <p:nvPr/>
          </p:nvSpPr>
          <p:spPr>
            <a:xfrm>
              <a:off x="3516840" y="4292640"/>
              <a:ext cx="1960920" cy="82512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十位  个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5"/>
            <p:cNvSpPr/>
            <p:nvPr/>
          </p:nvSpPr>
          <p:spPr>
            <a:xfrm flipV="1">
              <a:off x="3635280" y="1699920"/>
              <a:ext cx="0" cy="25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6"/>
            <p:cNvSpPr/>
            <p:nvPr/>
          </p:nvSpPr>
          <p:spPr>
            <a:xfrm flipV="1">
              <a:off x="5435640" y="1699920"/>
              <a:ext cx="0" cy="25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Oval 10"/>
          <p:cNvSpPr/>
          <p:nvPr/>
        </p:nvSpPr>
        <p:spPr>
          <a:xfrm>
            <a:off x="5105520" y="407664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Oval 11"/>
          <p:cNvSpPr/>
          <p:nvPr/>
        </p:nvSpPr>
        <p:spPr>
          <a:xfrm>
            <a:off x="5105520" y="386064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Oval 12"/>
          <p:cNvSpPr/>
          <p:nvPr/>
        </p:nvSpPr>
        <p:spPr>
          <a:xfrm>
            <a:off x="5105520" y="3645000"/>
            <a:ext cx="64764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 13"/>
          <p:cNvSpPr/>
          <p:nvPr/>
        </p:nvSpPr>
        <p:spPr>
          <a:xfrm>
            <a:off x="5105520" y="342900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Oval 14"/>
          <p:cNvSpPr/>
          <p:nvPr/>
        </p:nvSpPr>
        <p:spPr>
          <a:xfrm>
            <a:off x="5105520" y="3198960"/>
            <a:ext cx="64764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15"/>
          <p:cNvSpPr/>
          <p:nvPr/>
        </p:nvSpPr>
        <p:spPr>
          <a:xfrm>
            <a:off x="5105520" y="2967120"/>
            <a:ext cx="64764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16"/>
          <p:cNvSpPr/>
          <p:nvPr/>
        </p:nvSpPr>
        <p:spPr>
          <a:xfrm>
            <a:off x="5105520" y="273672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17"/>
          <p:cNvSpPr/>
          <p:nvPr/>
        </p:nvSpPr>
        <p:spPr>
          <a:xfrm>
            <a:off x="5105520" y="2521080"/>
            <a:ext cx="64764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18"/>
          <p:cNvSpPr/>
          <p:nvPr/>
        </p:nvSpPr>
        <p:spPr>
          <a:xfrm>
            <a:off x="5105520" y="229068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9"/>
          <p:cNvSpPr/>
          <p:nvPr/>
        </p:nvSpPr>
        <p:spPr>
          <a:xfrm>
            <a:off x="515016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09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6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097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5" name="Text Box 9"/>
          <p:cNvSpPr/>
          <p:nvPr/>
        </p:nvSpPr>
        <p:spPr>
          <a:xfrm>
            <a:off x="1477800" y="144360"/>
            <a:ext cx="100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楷体"/>
                <a:ea typeface="楷体"/>
              </a:rPr>
              <a:t>拨一拨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"/>
          <p:cNvGrpSpPr/>
          <p:nvPr/>
        </p:nvGrpSpPr>
        <p:grpSpPr>
          <a:xfrm>
            <a:off x="3732840" y="834840"/>
            <a:ext cx="1960920" cy="3417840"/>
            <a:chOff x="3732840" y="834840"/>
            <a:chExt cx="1960920" cy="3417840"/>
          </a:xfrm>
        </p:grpSpPr>
        <p:sp>
          <p:nvSpPr>
            <p:cNvPr id="1107" name="Text Box 5"/>
            <p:cNvSpPr/>
            <p:nvPr/>
          </p:nvSpPr>
          <p:spPr>
            <a:xfrm>
              <a:off x="3732840" y="3427560"/>
              <a:ext cx="1960920" cy="82512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十位  个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6"/>
            <p:cNvSpPr/>
            <p:nvPr/>
          </p:nvSpPr>
          <p:spPr>
            <a:xfrm flipV="1">
              <a:off x="3850920" y="834840"/>
              <a:ext cx="0" cy="25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7"/>
            <p:cNvSpPr/>
            <p:nvPr/>
          </p:nvSpPr>
          <p:spPr>
            <a:xfrm flipV="1">
              <a:off x="5651280" y="834840"/>
              <a:ext cx="0" cy="259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Oval 8"/>
          <p:cNvSpPr/>
          <p:nvPr/>
        </p:nvSpPr>
        <p:spPr>
          <a:xfrm>
            <a:off x="5364000" y="321156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9"/>
          <p:cNvSpPr/>
          <p:nvPr/>
        </p:nvSpPr>
        <p:spPr>
          <a:xfrm>
            <a:off x="5364000" y="299556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10"/>
          <p:cNvSpPr/>
          <p:nvPr/>
        </p:nvSpPr>
        <p:spPr>
          <a:xfrm>
            <a:off x="5364000" y="277956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11"/>
          <p:cNvSpPr/>
          <p:nvPr/>
        </p:nvSpPr>
        <p:spPr>
          <a:xfrm>
            <a:off x="5364000" y="2563920"/>
            <a:ext cx="648000" cy="21564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12"/>
          <p:cNvSpPr/>
          <p:nvPr/>
        </p:nvSpPr>
        <p:spPr>
          <a:xfrm>
            <a:off x="5364000" y="233352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13"/>
          <p:cNvSpPr/>
          <p:nvPr/>
        </p:nvSpPr>
        <p:spPr>
          <a:xfrm>
            <a:off x="5364000" y="210168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14"/>
          <p:cNvSpPr/>
          <p:nvPr/>
        </p:nvSpPr>
        <p:spPr>
          <a:xfrm>
            <a:off x="5364000" y="187164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15"/>
          <p:cNvSpPr/>
          <p:nvPr/>
        </p:nvSpPr>
        <p:spPr>
          <a:xfrm>
            <a:off x="5364000" y="165564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16"/>
          <p:cNvSpPr/>
          <p:nvPr/>
        </p:nvSpPr>
        <p:spPr>
          <a:xfrm>
            <a:off x="5364000" y="141120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17"/>
          <p:cNvSpPr/>
          <p:nvPr/>
        </p:nvSpPr>
        <p:spPr>
          <a:xfrm>
            <a:off x="5364000" y="476280"/>
            <a:ext cx="64800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18"/>
          <p:cNvSpPr/>
          <p:nvPr/>
        </p:nvSpPr>
        <p:spPr>
          <a:xfrm>
            <a:off x="3521160" y="3211560"/>
            <a:ext cx="647640" cy="21600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9"/>
          <p:cNvSpPr/>
          <p:nvPr/>
        </p:nvSpPr>
        <p:spPr>
          <a:xfrm>
            <a:off x="2640960" y="5734080"/>
            <a:ext cx="432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十位上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个珠子表示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个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21"/>
          <p:cNvSpPr/>
          <p:nvPr/>
        </p:nvSpPr>
        <p:spPr>
          <a:xfrm>
            <a:off x="3492360" y="4437000"/>
            <a:ext cx="29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1   </a:t>
            </a: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12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5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126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流程图: 可选过程 9217"/>
          <p:cNvSpPr/>
          <p:nvPr/>
        </p:nvSpPr>
        <p:spPr>
          <a:xfrm>
            <a:off x="1979640" y="944640"/>
            <a:ext cx="1944720" cy="3313080"/>
          </a:xfrm>
          <a:prstGeom prst="flowChartAlternateProcess">
            <a:avLst/>
          </a:prstGeom>
          <a:solidFill>
            <a:srgbClr val="e6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流程图: 可选过程 9218"/>
          <p:cNvSpPr/>
          <p:nvPr/>
        </p:nvSpPr>
        <p:spPr>
          <a:xfrm>
            <a:off x="5438880" y="979560"/>
            <a:ext cx="1942920" cy="3313080"/>
          </a:xfrm>
          <a:prstGeom prst="flowChartAlternateProcess">
            <a:avLst/>
          </a:prstGeom>
          <a:solidFill>
            <a:srgbClr val="e6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椭圆 9219"/>
          <p:cNvSpPr/>
          <p:nvPr/>
        </p:nvSpPr>
        <p:spPr>
          <a:xfrm>
            <a:off x="2268360" y="1160640"/>
            <a:ext cx="50328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椭圆 9220"/>
          <p:cNvSpPr/>
          <p:nvPr/>
        </p:nvSpPr>
        <p:spPr>
          <a:xfrm>
            <a:off x="2268360" y="1790640"/>
            <a:ext cx="50328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椭圆 9221"/>
          <p:cNvSpPr/>
          <p:nvPr/>
        </p:nvSpPr>
        <p:spPr>
          <a:xfrm>
            <a:off x="2268360" y="2421000"/>
            <a:ext cx="50328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椭圆 9222"/>
          <p:cNvSpPr/>
          <p:nvPr/>
        </p:nvSpPr>
        <p:spPr>
          <a:xfrm>
            <a:off x="2268360" y="3051000"/>
            <a:ext cx="50328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椭圆 9223"/>
          <p:cNvSpPr/>
          <p:nvPr/>
        </p:nvSpPr>
        <p:spPr>
          <a:xfrm>
            <a:off x="2268360" y="3679920"/>
            <a:ext cx="50328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椭圆 9224"/>
          <p:cNvSpPr/>
          <p:nvPr/>
        </p:nvSpPr>
        <p:spPr>
          <a:xfrm>
            <a:off x="3132000" y="1808280"/>
            <a:ext cx="50328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椭圆 9225"/>
          <p:cNvSpPr/>
          <p:nvPr/>
        </p:nvSpPr>
        <p:spPr>
          <a:xfrm>
            <a:off x="3132000" y="2438280"/>
            <a:ext cx="503280" cy="50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椭圆 9226"/>
          <p:cNvSpPr/>
          <p:nvPr/>
        </p:nvSpPr>
        <p:spPr>
          <a:xfrm>
            <a:off x="3132000" y="3068640"/>
            <a:ext cx="50328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椭圆 9227"/>
          <p:cNvSpPr/>
          <p:nvPr/>
        </p:nvSpPr>
        <p:spPr>
          <a:xfrm>
            <a:off x="3132000" y="3699000"/>
            <a:ext cx="50328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椭圆 9228"/>
          <p:cNvSpPr/>
          <p:nvPr/>
        </p:nvSpPr>
        <p:spPr>
          <a:xfrm>
            <a:off x="5726160" y="1141560"/>
            <a:ext cx="50472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椭圆 9229"/>
          <p:cNvSpPr/>
          <p:nvPr/>
        </p:nvSpPr>
        <p:spPr>
          <a:xfrm>
            <a:off x="5726160" y="1771560"/>
            <a:ext cx="504720" cy="50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椭圆 9230"/>
          <p:cNvSpPr/>
          <p:nvPr/>
        </p:nvSpPr>
        <p:spPr>
          <a:xfrm>
            <a:off x="5726160" y="2401920"/>
            <a:ext cx="50472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椭圆 9231"/>
          <p:cNvSpPr/>
          <p:nvPr/>
        </p:nvSpPr>
        <p:spPr>
          <a:xfrm>
            <a:off x="5726160" y="3032280"/>
            <a:ext cx="504720" cy="5029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椭圆 9232"/>
          <p:cNvSpPr/>
          <p:nvPr/>
        </p:nvSpPr>
        <p:spPr>
          <a:xfrm>
            <a:off x="5726160" y="3660840"/>
            <a:ext cx="50472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椭圆 9233"/>
          <p:cNvSpPr/>
          <p:nvPr/>
        </p:nvSpPr>
        <p:spPr>
          <a:xfrm>
            <a:off x="6589800" y="1789200"/>
            <a:ext cx="504720" cy="5047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椭圆 9234"/>
          <p:cNvSpPr/>
          <p:nvPr/>
        </p:nvSpPr>
        <p:spPr>
          <a:xfrm>
            <a:off x="6589800" y="2419200"/>
            <a:ext cx="504720" cy="5050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椭圆 9235"/>
          <p:cNvSpPr/>
          <p:nvPr/>
        </p:nvSpPr>
        <p:spPr>
          <a:xfrm>
            <a:off x="6589800" y="3049560"/>
            <a:ext cx="50472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椭圆 9236"/>
          <p:cNvSpPr/>
          <p:nvPr/>
        </p:nvSpPr>
        <p:spPr>
          <a:xfrm>
            <a:off x="6589800" y="3679920"/>
            <a:ext cx="50472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椭圆 9237"/>
          <p:cNvSpPr/>
          <p:nvPr/>
        </p:nvSpPr>
        <p:spPr>
          <a:xfrm>
            <a:off x="6589800" y="1123920"/>
            <a:ext cx="504720" cy="5032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9238"/>
          <p:cNvSpPr/>
          <p:nvPr/>
        </p:nvSpPr>
        <p:spPr>
          <a:xfrm>
            <a:off x="3593160" y="4657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椭圆 9239"/>
          <p:cNvSpPr/>
          <p:nvPr/>
        </p:nvSpPr>
        <p:spPr>
          <a:xfrm>
            <a:off x="4273560" y="4726080"/>
            <a:ext cx="50472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9240"/>
          <p:cNvSpPr/>
          <p:nvPr/>
        </p:nvSpPr>
        <p:spPr>
          <a:xfrm>
            <a:off x="5005440" y="4726080"/>
            <a:ext cx="5032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9241"/>
          <p:cNvSpPr/>
          <p:nvPr/>
        </p:nvSpPr>
        <p:spPr>
          <a:xfrm>
            <a:off x="3465720" y="53784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椭圆 9242"/>
          <p:cNvSpPr/>
          <p:nvPr/>
        </p:nvSpPr>
        <p:spPr>
          <a:xfrm>
            <a:off x="4273560" y="5445000"/>
            <a:ext cx="503280" cy="505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9243"/>
          <p:cNvSpPr/>
          <p:nvPr/>
        </p:nvSpPr>
        <p:spPr>
          <a:xfrm>
            <a:off x="5003640" y="5445000"/>
            <a:ext cx="50508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组合 9244"/>
          <p:cNvGrpSpPr/>
          <p:nvPr/>
        </p:nvGrpSpPr>
        <p:grpSpPr>
          <a:xfrm>
            <a:off x="4356000" y="5589720"/>
            <a:ext cx="360360" cy="288360"/>
            <a:chOff x="4356000" y="5589720"/>
            <a:chExt cx="360360" cy="288360"/>
          </a:xfrm>
        </p:grpSpPr>
        <p:sp>
          <p:nvSpPr>
            <p:cNvPr id="1162" name="直接连接符 9245"/>
            <p:cNvSpPr/>
            <p:nvPr/>
          </p:nvSpPr>
          <p:spPr>
            <a:xfrm>
              <a:off x="4356000" y="5589720"/>
              <a:ext cx="360360" cy="128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直接连接符 9246"/>
            <p:cNvSpPr/>
            <p:nvPr/>
          </p:nvSpPr>
          <p:spPr>
            <a:xfrm flipV="1">
              <a:off x="4356000" y="5717880"/>
              <a:ext cx="36036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组合 9247"/>
          <p:cNvGrpSpPr/>
          <p:nvPr/>
        </p:nvGrpSpPr>
        <p:grpSpPr>
          <a:xfrm>
            <a:off x="4356360" y="4864680"/>
            <a:ext cx="364680" cy="286560"/>
            <a:chOff x="4356360" y="4864680"/>
            <a:chExt cx="364680" cy="286560"/>
          </a:xfrm>
        </p:grpSpPr>
        <p:sp>
          <p:nvSpPr>
            <p:cNvPr id="1165" name="直接连接符 9248"/>
            <p:cNvSpPr/>
            <p:nvPr/>
          </p:nvSpPr>
          <p:spPr>
            <a:xfrm flipH="1" flipV="1">
              <a:off x="4356360" y="5036040"/>
              <a:ext cx="364680" cy="11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直接连接符 9249"/>
            <p:cNvSpPr/>
            <p:nvPr/>
          </p:nvSpPr>
          <p:spPr>
            <a:xfrm flipH="1">
              <a:off x="4356360" y="4864680"/>
              <a:ext cx="354600" cy="171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文本框 9250"/>
          <p:cNvSpPr/>
          <p:nvPr/>
        </p:nvSpPr>
        <p:spPr>
          <a:xfrm>
            <a:off x="4932720" y="46544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9251"/>
          <p:cNvSpPr/>
          <p:nvPr/>
        </p:nvSpPr>
        <p:spPr>
          <a:xfrm>
            <a:off x="5077440" y="5373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170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1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172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4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5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6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8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9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组合 11265"/>
          <p:cNvGrpSpPr/>
          <p:nvPr/>
        </p:nvGrpSpPr>
        <p:grpSpPr>
          <a:xfrm>
            <a:off x="3816360" y="4078440"/>
            <a:ext cx="1584000" cy="1728720"/>
            <a:chOff x="3816360" y="4078440"/>
            <a:chExt cx="1584000" cy="1728720"/>
          </a:xfrm>
        </p:grpSpPr>
        <p:sp>
          <p:nvSpPr>
            <p:cNvPr id="1181" name="Text Box 18"/>
            <p:cNvSpPr/>
            <p:nvPr/>
          </p:nvSpPr>
          <p:spPr>
            <a:xfrm>
              <a:off x="4309200" y="40784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19"/>
            <p:cNvGrpSpPr/>
            <p:nvPr/>
          </p:nvGrpSpPr>
          <p:grpSpPr>
            <a:xfrm>
              <a:off x="4248000" y="4654800"/>
              <a:ext cx="781920" cy="546840"/>
              <a:chOff x="4248000" y="4654800"/>
              <a:chExt cx="781920" cy="546840"/>
            </a:xfrm>
          </p:grpSpPr>
          <p:sp>
            <p:nvSpPr>
              <p:cNvPr id="1183" name="Line 20"/>
              <p:cNvSpPr/>
              <p:nvPr/>
            </p:nvSpPr>
            <p:spPr>
              <a:xfrm flipH="1">
                <a:off x="4248000" y="4654800"/>
                <a:ext cx="42120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21"/>
              <p:cNvSpPr/>
              <p:nvPr/>
            </p:nvSpPr>
            <p:spPr>
              <a:xfrm>
                <a:off x="4669200" y="465480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5" name="矩形 11270"/>
            <p:cNvSpPr/>
            <p:nvPr/>
          </p:nvSpPr>
          <p:spPr>
            <a:xfrm>
              <a:off x="3816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矩形 11271"/>
            <p:cNvSpPr/>
            <p:nvPr/>
          </p:nvSpPr>
          <p:spPr>
            <a:xfrm>
              <a:off x="4896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1272"/>
          <p:cNvGrpSpPr/>
          <p:nvPr/>
        </p:nvGrpSpPr>
        <p:grpSpPr>
          <a:xfrm>
            <a:off x="6948360" y="4078440"/>
            <a:ext cx="1584000" cy="1728720"/>
            <a:chOff x="6948360" y="4078440"/>
            <a:chExt cx="1584000" cy="1728720"/>
          </a:xfrm>
        </p:grpSpPr>
        <p:sp>
          <p:nvSpPr>
            <p:cNvPr id="1188" name="Text Box 18"/>
            <p:cNvSpPr/>
            <p:nvPr/>
          </p:nvSpPr>
          <p:spPr>
            <a:xfrm>
              <a:off x="7441200" y="40784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Group 19"/>
            <p:cNvGrpSpPr/>
            <p:nvPr/>
          </p:nvGrpSpPr>
          <p:grpSpPr>
            <a:xfrm>
              <a:off x="7380000" y="4654800"/>
              <a:ext cx="781920" cy="546840"/>
              <a:chOff x="7380000" y="4654800"/>
              <a:chExt cx="781920" cy="546840"/>
            </a:xfrm>
          </p:grpSpPr>
          <p:sp>
            <p:nvSpPr>
              <p:cNvPr id="1190" name="Line 20"/>
              <p:cNvSpPr/>
              <p:nvPr/>
            </p:nvSpPr>
            <p:spPr>
              <a:xfrm flipH="1">
                <a:off x="7380000" y="4654800"/>
                <a:ext cx="42120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21"/>
              <p:cNvSpPr/>
              <p:nvPr/>
            </p:nvSpPr>
            <p:spPr>
              <a:xfrm>
                <a:off x="7801200" y="465480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矩形 11277"/>
            <p:cNvSpPr/>
            <p:nvPr/>
          </p:nvSpPr>
          <p:spPr>
            <a:xfrm>
              <a:off x="6948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矩形 11278"/>
            <p:cNvSpPr/>
            <p:nvPr/>
          </p:nvSpPr>
          <p:spPr>
            <a:xfrm>
              <a:off x="8028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组合 11279"/>
          <p:cNvGrpSpPr/>
          <p:nvPr/>
        </p:nvGrpSpPr>
        <p:grpSpPr>
          <a:xfrm>
            <a:off x="1905120" y="1771560"/>
            <a:ext cx="1584000" cy="1728720"/>
            <a:chOff x="1905120" y="1771560"/>
            <a:chExt cx="1584000" cy="1728720"/>
          </a:xfrm>
        </p:grpSpPr>
        <p:sp>
          <p:nvSpPr>
            <p:cNvPr id="1195" name="Text Box 18"/>
            <p:cNvSpPr/>
            <p:nvPr/>
          </p:nvSpPr>
          <p:spPr>
            <a:xfrm>
              <a:off x="2397960" y="17715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9"/>
            <p:cNvGrpSpPr/>
            <p:nvPr/>
          </p:nvGrpSpPr>
          <p:grpSpPr>
            <a:xfrm>
              <a:off x="2336760" y="2347920"/>
              <a:ext cx="781920" cy="546840"/>
              <a:chOff x="2336760" y="2347920"/>
              <a:chExt cx="781920" cy="546840"/>
            </a:xfrm>
          </p:grpSpPr>
          <p:sp>
            <p:nvSpPr>
              <p:cNvPr id="1197" name="Line 20"/>
              <p:cNvSpPr/>
              <p:nvPr/>
            </p:nvSpPr>
            <p:spPr>
              <a:xfrm flipH="1">
                <a:off x="2336760" y="2347920"/>
                <a:ext cx="42120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21"/>
              <p:cNvSpPr/>
              <p:nvPr/>
            </p:nvSpPr>
            <p:spPr>
              <a:xfrm>
                <a:off x="2757960" y="234792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矩形 11284"/>
            <p:cNvSpPr/>
            <p:nvPr/>
          </p:nvSpPr>
          <p:spPr>
            <a:xfrm>
              <a:off x="1905120" y="299592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矩形 11285"/>
            <p:cNvSpPr/>
            <p:nvPr/>
          </p:nvSpPr>
          <p:spPr>
            <a:xfrm>
              <a:off x="2985120" y="299592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11286"/>
          <p:cNvGrpSpPr/>
          <p:nvPr/>
        </p:nvGrpSpPr>
        <p:grpSpPr>
          <a:xfrm>
            <a:off x="684360" y="4078440"/>
            <a:ext cx="1584000" cy="1728720"/>
            <a:chOff x="684360" y="4078440"/>
            <a:chExt cx="1584000" cy="1728720"/>
          </a:xfrm>
        </p:grpSpPr>
        <p:sp>
          <p:nvSpPr>
            <p:cNvPr id="1202" name="Text Box 18"/>
            <p:cNvSpPr/>
            <p:nvPr/>
          </p:nvSpPr>
          <p:spPr>
            <a:xfrm>
              <a:off x="1177200" y="407844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Group 19"/>
            <p:cNvGrpSpPr/>
            <p:nvPr/>
          </p:nvGrpSpPr>
          <p:grpSpPr>
            <a:xfrm>
              <a:off x="1115640" y="4654800"/>
              <a:ext cx="781920" cy="546840"/>
              <a:chOff x="1115640" y="4654800"/>
              <a:chExt cx="781920" cy="546840"/>
            </a:xfrm>
          </p:grpSpPr>
          <p:sp>
            <p:nvSpPr>
              <p:cNvPr id="1204" name="Line 20"/>
              <p:cNvSpPr/>
              <p:nvPr/>
            </p:nvSpPr>
            <p:spPr>
              <a:xfrm flipH="1">
                <a:off x="1115640" y="4654800"/>
                <a:ext cx="42084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21"/>
              <p:cNvSpPr/>
              <p:nvPr/>
            </p:nvSpPr>
            <p:spPr>
              <a:xfrm>
                <a:off x="1536840" y="465480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矩形 11291"/>
            <p:cNvSpPr/>
            <p:nvPr/>
          </p:nvSpPr>
          <p:spPr>
            <a:xfrm>
              <a:off x="684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1292"/>
            <p:cNvSpPr/>
            <p:nvPr/>
          </p:nvSpPr>
          <p:spPr>
            <a:xfrm>
              <a:off x="1764360" y="530280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组合 11293"/>
          <p:cNvGrpSpPr/>
          <p:nvPr/>
        </p:nvGrpSpPr>
        <p:grpSpPr>
          <a:xfrm>
            <a:off x="5721480" y="1771560"/>
            <a:ext cx="1584000" cy="1728720"/>
            <a:chOff x="5721480" y="1771560"/>
            <a:chExt cx="1584000" cy="1728720"/>
          </a:xfrm>
        </p:grpSpPr>
        <p:sp>
          <p:nvSpPr>
            <p:cNvPr id="1209" name="Text Box 18"/>
            <p:cNvSpPr/>
            <p:nvPr/>
          </p:nvSpPr>
          <p:spPr>
            <a:xfrm>
              <a:off x="6214320" y="177156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ahoma"/>
                  <a:ea typeface="隶书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Group 19"/>
            <p:cNvGrpSpPr/>
            <p:nvPr/>
          </p:nvGrpSpPr>
          <p:grpSpPr>
            <a:xfrm>
              <a:off x="6153120" y="2347920"/>
              <a:ext cx="781920" cy="546840"/>
              <a:chOff x="6153120" y="2347920"/>
              <a:chExt cx="781920" cy="546840"/>
            </a:xfrm>
          </p:grpSpPr>
          <p:sp>
            <p:nvSpPr>
              <p:cNvPr id="1211" name="Line 20"/>
              <p:cNvSpPr/>
              <p:nvPr/>
            </p:nvSpPr>
            <p:spPr>
              <a:xfrm flipH="1">
                <a:off x="6153120" y="2347920"/>
                <a:ext cx="42120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>
                <a:off x="6574320" y="2347920"/>
                <a:ext cx="360720" cy="5468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矩形 11298"/>
            <p:cNvSpPr/>
            <p:nvPr/>
          </p:nvSpPr>
          <p:spPr>
            <a:xfrm>
              <a:off x="5721480" y="299592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矩形 11299"/>
            <p:cNvSpPr/>
            <p:nvPr/>
          </p:nvSpPr>
          <p:spPr>
            <a:xfrm>
              <a:off x="6801480" y="2995920"/>
              <a:ext cx="504000" cy="50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文本框 11300"/>
          <p:cNvSpPr/>
          <p:nvPr/>
        </p:nvSpPr>
        <p:spPr>
          <a:xfrm>
            <a:off x="1980360" y="2995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11301"/>
          <p:cNvSpPr/>
          <p:nvPr/>
        </p:nvSpPr>
        <p:spPr>
          <a:xfrm>
            <a:off x="5796720" y="2995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文本框 11302"/>
          <p:cNvSpPr/>
          <p:nvPr/>
        </p:nvSpPr>
        <p:spPr>
          <a:xfrm>
            <a:off x="75636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文本框 11303"/>
          <p:cNvSpPr/>
          <p:nvPr/>
        </p:nvSpPr>
        <p:spPr>
          <a:xfrm>
            <a:off x="385272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11304"/>
          <p:cNvSpPr/>
          <p:nvPr/>
        </p:nvSpPr>
        <p:spPr>
          <a:xfrm>
            <a:off x="802872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11305"/>
          <p:cNvSpPr/>
          <p:nvPr/>
        </p:nvSpPr>
        <p:spPr>
          <a:xfrm>
            <a:off x="493308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11306"/>
          <p:cNvSpPr/>
          <p:nvPr/>
        </p:nvSpPr>
        <p:spPr>
          <a:xfrm>
            <a:off x="183672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11307"/>
          <p:cNvSpPr/>
          <p:nvPr/>
        </p:nvSpPr>
        <p:spPr>
          <a:xfrm>
            <a:off x="6877080" y="2995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文本框 11308"/>
          <p:cNvSpPr/>
          <p:nvPr/>
        </p:nvSpPr>
        <p:spPr>
          <a:xfrm>
            <a:off x="3060000" y="2995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11309"/>
          <p:cNvSpPr/>
          <p:nvPr/>
        </p:nvSpPr>
        <p:spPr>
          <a:xfrm>
            <a:off x="7021440" y="5302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图片 11310" descr="图片234456"/>
          <p:cNvPicPr/>
          <p:nvPr/>
        </p:nvPicPr>
        <p:blipFill>
          <a:blip r:embed="rId1"/>
          <a:stretch/>
        </p:blipFill>
        <p:spPr>
          <a:xfrm>
            <a:off x="1549440" y="730080"/>
            <a:ext cx="790560" cy="704880"/>
          </a:xfrm>
          <a:prstGeom prst="rect">
            <a:avLst/>
          </a:prstGeom>
          <a:ln w="0">
            <a:noFill/>
          </a:ln>
        </p:spPr>
      </p:pic>
      <p:sp>
        <p:nvSpPr>
          <p:cNvPr id="1226" name="文本框 11311"/>
          <p:cNvSpPr/>
          <p:nvPr/>
        </p:nvSpPr>
        <p:spPr>
          <a:xfrm>
            <a:off x="468360" y="8352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先用          摆一摆，再填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228" name="圆角矩形 5" descr=""/>
            <p:cNvPicPr/>
            <p:nvPr/>
          </p:nvPicPr>
          <p:blipFill>
            <a:blip r:embed="rId2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9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230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1" name="椭圆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2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3" name="椭圆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4" name="圆角矩形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5" name="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" name="圆角矩形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7" name="圆角矩形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椭圆 12289"/>
          <p:cNvSpPr/>
          <p:nvPr/>
        </p:nvSpPr>
        <p:spPr>
          <a:xfrm>
            <a:off x="1260360" y="2368440"/>
            <a:ext cx="5975640" cy="36734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椭圆 12290"/>
          <p:cNvSpPr/>
          <p:nvPr/>
        </p:nvSpPr>
        <p:spPr>
          <a:xfrm>
            <a:off x="3419640" y="1782720"/>
            <a:ext cx="83484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椭圆 12291"/>
          <p:cNvSpPr/>
          <p:nvPr/>
        </p:nvSpPr>
        <p:spPr>
          <a:xfrm>
            <a:off x="4932360" y="1782720"/>
            <a:ext cx="83340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椭圆 12292"/>
          <p:cNvSpPr/>
          <p:nvPr/>
        </p:nvSpPr>
        <p:spPr>
          <a:xfrm>
            <a:off x="6445080" y="2503440"/>
            <a:ext cx="83376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椭圆 12293"/>
          <p:cNvSpPr/>
          <p:nvPr/>
        </p:nvSpPr>
        <p:spPr>
          <a:xfrm>
            <a:off x="6877080" y="4160880"/>
            <a:ext cx="83340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椭圆 12294"/>
          <p:cNvSpPr/>
          <p:nvPr/>
        </p:nvSpPr>
        <p:spPr>
          <a:xfrm>
            <a:off x="5651640" y="5311800"/>
            <a:ext cx="83484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椭圆 12295"/>
          <p:cNvSpPr/>
          <p:nvPr/>
        </p:nvSpPr>
        <p:spPr>
          <a:xfrm>
            <a:off x="4067280" y="5600880"/>
            <a:ext cx="834840" cy="801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椭圆 12296"/>
          <p:cNvSpPr/>
          <p:nvPr/>
        </p:nvSpPr>
        <p:spPr>
          <a:xfrm>
            <a:off x="2556000" y="5383080"/>
            <a:ext cx="83340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椭圆 12297"/>
          <p:cNvSpPr/>
          <p:nvPr/>
        </p:nvSpPr>
        <p:spPr>
          <a:xfrm>
            <a:off x="1187280" y="4735440"/>
            <a:ext cx="83376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椭圆 12298"/>
          <p:cNvSpPr/>
          <p:nvPr/>
        </p:nvSpPr>
        <p:spPr>
          <a:xfrm>
            <a:off x="1979640" y="2143080"/>
            <a:ext cx="83484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椭圆 12299"/>
          <p:cNvSpPr/>
          <p:nvPr/>
        </p:nvSpPr>
        <p:spPr>
          <a:xfrm>
            <a:off x="900000" y="3224160"/>
            <a:ext cx="833400" cy="801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12300"/>
          <p:cNvSpPr/>
          <p:nvPr/>
        </p:nvSpPr>
        <p:spPr>
          <a:xfrm>
            <a:off x="5150160" y="1843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12301"/>
          <p:cNvSpPr/>
          <p:nvPr/>
        </p:nvSpPr>
        <p:spPr>
          <a:xfrm>
            <a:off x="6663240" y="2563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文本框 12302"/>
          <p:cNvSpPr/>
          <p:nvPr/>
        </p:nvSpPr>
        <p:spPr>
          <a:xfrm>
            <a:off x="3565800" y="184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文本框 12303"/>
          <p:cNvSpPr/>
          <p:nvPr/>
        </p:nvSpPr>
        <p:spPr>
          <a:xfrm>
            <a:off x="2197440" y="22035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文本框 12304"/>
          <p:cNvSpPr/>
          <p:nvPr/>
        </p:nvSpPr>
        <p:spPr>
          <a:xfrm>
            <a:off x="1117800" y="3284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文本框 12305"/>
          <p:cNvSpPr/>
          <p:nvPr/>
        </p:nvSpPr>
        <p:spPr>
          <a:xfrm>
            <a:off x="7094880" y="4221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文本框 12306"/>
          <p:cNvSpPr/>
          <p:nvPr/>
        </p:nvSpPr>
        <p:spPr>
          <a:xfrm>
            <a:off x="5869440" y="5372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文本框 12307"/>
          <p:cNvSpPr/>
          <p:nvPr/>
        </p:nvSpPr>
        <p:spPr>
          <a:xfrm>
            <a:off x="4285080" y="56610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文本框 12308"/>
          <p:cNvSpPr/>
          <p:nvPr/>
        </p:nvSpPr>
        <p:spPr>
          <a:xfrm>
            <a:off x="2773800" y="55148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文本框 12309"/>
          <p:cNvSpPr/>
          <p:nvPr/>
        </p:nvSpPr>
        <p:spPr>
          <a:xfrm>
            <a:off x="1405440" y="479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直接连接符 12310"/>
          <p:cNvSpPr/>
          <p:nvPr/>
        </p:nvSpPr>
        <p:spPr>
          <a:xfrm>
            <a:off x="1763640" y="3995640"/>
            <a:ext cx="2433600" cy="1470240"/>
          </a:xfrm>
          <a:prstGeom prst="line">
            <a:avLst/>
          </a:prstGeom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直接连接符 12311"/>
          <p:cNvSpPr/>
          <p:nvPr/>
        </p:nvSpPr>
        <p:spPr>
          <a:xfrm>
            <a:off x="2700360" y="3044880"/>
            <a:ext cx="3753000" cy="12682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直接连接符 12312"/>
          <p:cNvSpPr/>
          <p:nvPr/>
        </p:nvSpPr>
        <p:spPr>
          <a:xfrm flipH="1">
            <a:off x="3203280" y="2906640"/>
            <a:ext cx="625320" cy="22719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直接连接符 12313"/>
          <p:cNvSpPr/>
          <p:nvPr/>
        </p:nvSpPr>
        <p:spPr>
          <a:xfrm>
            <a:off x="5292720" y="2895480"/>
            <a:ext cx="554040" cy="213840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直接连接符 12314"/>
          <p:cNvSpPr/>
          <p:nvPr/>
        </p:nvSpPr>
        <p:spPr>
          <a:xfrm flipV="1">
            <a:off x="2124000" y="3352320"/>
            <a:ext cx="4168800" cy="15368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文本框 12316"/>
          <p:cNvSpPr/>
          <p:nvPr/>
        </p:nvSpPr>
        <p:spPr>
          <a:xfrm>
            <a:off x="468360" y="1052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哪两个数合起来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组合 2"/>
          <p:cNvGrpSpPr/>
          <p:nvPr/>
        </p:nvGrpSpPr>
        <p:grpSpPr>
          <a:xfrm>
            <a:off x="0" y="155520"/>
            <a:ext cx="3713040" cy="527040"/>
            <a:chOff x="0" y="155520"/>
            <a:chExt cx="3713040" cy="527040"/>
          </a:xfrm>
        </p:grpSpPr>
        <p:pic>
          <p:nvPicPr>
            <p:cNvPr id="126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6400" y="155520"/>
              <a:ext cx="35366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7" name="组合 4"/>
            <p:cNvGrpSpPr/>
            <p:nvPr/>
          </p:nvGrpSpPr>
          <p:grpSpPr>
            <a:xfrm>
              <a:off x="0" y="250560"/>
              <a:ext cx="493560" cy="274680"/>
              <a:chOff x="0" y="250560"/>
              <a:chExt cx="493560" cy="274680"/>
            </a:xfrm>
          </p:grpSpPr>
          <p:sp>
            <p:nvSpPr>
              <p:cNvPr id="1268" name="椭圆 11"/>
              <p:cNvSpPr/>
              <p:nvPr/>
            </p:nvSpPr>
            <p:spPr>
              <a:xfrm rot="16200000">
                <a:off x="254880" y="41184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69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2880" y="36504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椭圆 29"/>
              <p:cNvSpPr/>
              <p:nvPr/>
            </p:nvSpPr>
            <p:spPr>
              <a:xfrm rot="16200000">
                <a:off x="254880" y="281880"/>
                <a:ext cx="101520" cy="125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880" y="263520"/>
                <a:ext cx="2206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94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5424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57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417960" cy="8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6" name="Text Box 9"/>
          <p:cNvSpPr/>
          <p:nvPr/>
        </p:nvSpPr>
        <p:spPr>
          <a:xfrm>
            <a:off x="1477800" y="144360"/>
            <a:ext cx="1009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楷体"/>
                <a:ea typeface="楷体"/>
              </a:rPr>
              <a:t>做一做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8:23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